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DBC-1BC5-4579-B747-541114D3948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D2A3-8A10-41B1-A96C-6EC597ACACC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94C-4985-4394-8197-BA3F92D98E8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721-DE1E-457B-B560-73547376259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0F4-599D-43D0-BC0A-500609FE8CD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5C12-D724-4D2D-B537-D4167E115BF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D995-11B5-4AD0-92CC-96726BA7863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6297-4589-4E5E-8A03-FD3CC2A5321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D8ED-0C97-41EC-9463-C5054A76AE1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0806-E691-464B-BD9D-03D51D6E312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6BE-318E-4FA1-9A57-867B32721D3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9912-3E7F-4B94-B08A-D12ED776EDA4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0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8E7-276F-4EC8-AE81-00AEFB552FB1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011-6156-4219-924C-D904431022AE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2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B257-3FFB-4C95-AC08-E7C90E648B88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"/>
          <p:cNvPicPr/>
          <p:nvPr/>
        </p:nvPicPr>
        <p:blipFill>
          <a:blip r:embed="rId2"/>
          <a:stretch/>
        </p:blipFill>
        <p:spPr>
          <a:xfrm>
            <a:off x="-324000" y="-609480"/>
            <a:ext cx="9792000" cy="7326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6858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DC8-578E-4CB7-810C-6DE7557C1474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F14E-0616-4C7A-82D4-139A65B4B475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B28E-92E0-4A57-AB5D-28E2A2109393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6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D3A4-8974-42DF-BF7C-3FE8FAF9D656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7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CF3-8734-4684-A356-F25DE72DB86B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8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6C2-4657-4ED8-8A64-E3833F211795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9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93DE-AFF7-4EBF-B86B-3A65B0332DEA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norssi.fi/tutkimus-kokeilu-ja-kehittamistoimint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G:%5CTutkoke%5CTurun_normaalikoulun_tutkoke-strategia_31.12.201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808080"/>
                </a:solidFill>
                <a:latin typeface="Times New Roman"/>
              </a:rPr>
              <a:t>TUTKOKE Turun normaalikouluss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808080"/>
                </a:solidFill>
                <a:latin typeface="Times New Roman"/>
              </a:rPr>
              <a:t>0802211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808080"/>
                </a:solidFill>
                <a:latin typeface="Times New Roman"/>
              </a:rPr>
              <a:t>PM/MH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oke-rakente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13840" y="128592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run normaalikoulun ja yliopiston yhteistyöryhmä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oke-toiminnasta vastaava rehtori ja koordinaattorit sekä Turun opettajankoulutuslaitoksen ja ainelaitosten edustaj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5f5f5f"/>
                </a:solidFill>
                <a:latin typeface="Times New Roman"/>
              </a:rPr>
              <a:t>Veli-Matti Hakanen, Pirjo Mikkola, Mervi Hiilovaara-Teijo (TNK),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5f5f5f"/>
                </a:solidFill>
                <a:latin typeface="Times New Roman"/>
              </a:rPr>
              <a:t>Eila Matikainen (OKL)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run normaalikoulun tutkoke-ryhmä: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oke-työhön aktiivisesti orientoituneet lehtorit, toiminnasta vastaava rehtori ja koordinaattorit. Ryhmä kutsuu jäseniä sekä yksilöllisellä että avoimella kutsulla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utkoke-koordinaattorit: Pirjo Mikkola, Mervi Hiilovaara-Teijo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Yhteistyö Rauman normaalikoulun kanssa (Talvikki Lehtinen)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6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806-702C-4FF3-AF88-C6A3C7290040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imus-, kokeilu- ja kehittämistoiminnan strategia 2011-201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run normaalikoululla on erityisiä vahvuusalueita tutkimus-, kokeilu ja kehittämistyössään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monikulttuurisuus ja interkulttuurinen pedagogiikka,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vieraalla kielellä opettaminen ja oppiminen (CLIL), 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yrittäjyyskasvatus ja yrittäjämäinen oppiminen,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ieto- ja viestintätekniikan käyttö opetuksessa, opiskelussa ja oppimisessa,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joustava perusopetus (JOPO) sekä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erilaisen oppijan ohjaamine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ym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9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D5A-4379-4F58-B570-226A85A10327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Mikä TUTKOK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utkimus-, kokeilu ja kehittämistoimint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avoite määritelty harjoittelukoulujen strategiassa </a:t>
            </a:r>
            <a:r>
              <a:rPr b="0" lang="fi-FI" sz="24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v. 2020  ”Harjoittelukoulut …osallistuvat tutkimus- ja kehittämistyöhön.”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norssi.fi/tutkimus-kokeilu-ja-kehittamistoimint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2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979-B0BA-4AF4-A434-720EDC1649DF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KOKEILU, KEHITTÄMINEN JA TUTKIMUSTYÖ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verkosto kehittää tutkimusorientoitunutta ohjattua harjoittelu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mahdollistavat henkilöstön tutkimus- ja kokeilutoimintaa ja luovat edellytykset yhteiskunnalliseen vaikuttavuuteen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toimivat tutkimusympäristöinä ja luovat edellytyksiä tutkimukselle ja sen edellyttämälle yhteistyölle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5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815-9463-4D44-A05B-06640B48488A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7280" y="22824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IMUS-, KOKEILU- JA KEHITTÄMISSTRATEG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ovat osa yliopistoa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ämä mahdollista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ieteelliseen tutkimukseen perustuvan opettajankoulutukse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jen tiedeperustaisen kehittymisen / kehittämisen alueellisina tutkimus-, kokeilu- ja kehittämiskouluin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8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BA8-1DD9-4AAB-A4A5-ACE89A17757E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Harjoittelukoulujen rooli tutkimus-, kehittämis- ja kokeilukouluin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toimivat ohjatun harjoittelun kouluina sekä tutkimus-, kokeilu- ja kehittämiskouluin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jen opettajat ovat työnkuvansa perusteella kehittäjäopettaji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Normaalikoulut eivät ole itsenäisiä tutkimusinstituutteja; suhde tutkimus-, kokeilu- ja kehittämistoimintaan vaihtelee sen mukaan, minkälaisia mahdollisuuksia eri yliopistoyhteyksissä on tarjoll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1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517-7AB9-4550-9ACE-15F4D87EC37A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lähtevät mukaan ja liittyvät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yliopiston tutkimushankkeisiin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Normaalikoulut ovat aloitteellisia tutkimus- kokeilu- ja kehittämisideoidensa esille nostamisessa ja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etsivät aktiivisesti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niihin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parhaita kansallisia ja/tai kansainvälisiä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umppaneita yhteistyössä oman yliopistonsa kanssa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4" name="Päiväykse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BF2-EFFB-4856-853E-4353ABE1420F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Harjoittelukoulu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soveltavat hankkeissaan jo olemassa olevaa tutkimustieto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mahdollistavat henkilökuntansa tutkimus- ja kokeilutoiminta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ehittävät tutkimusorientoitunutta ohjattua harjoittelua jo olemassa olevien rakenteiden kautt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oimivat yhteistyökumppaneina muiden tutkimustahojen kanss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oimivat tutkimus- kokeilu- ja kehittämisympäristöinä, joilla on em. toimintaa sekä alueellisesti että valtakunnallisesti/kansainvälisesti sekä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edistävät muuta tieteellistä tutkimustoiminta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7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AC33-827E-4D0C-92C4-0106D294A412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Jokaisella harjoittelukoululla on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asiantuntijarekisteri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 ja lisäksi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harjoittelukoulut ovat verkottuneet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utkimus-, kokeilu- ja kehittämistoiminnassa ja voivat toteutta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yhteisiä tutkimus-, kokeilu- ja kehittämishankkeit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eri alueiden asiantuntijoiden yhteistyötä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kea rahoitust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oimia välittäjinä eri yliopistojen tutkimustoiminnass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0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89D-51BD-4ECB-8614-A14FE647A970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oke </a:t>
            </a:r>
            <a:br>
              <a:rPr sz="2400"/>
            </a:b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run normaalikouluss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ukin harjoittelukoulu on perustanut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imuksen, kokeilun ja kehittämisen yhteistyöryhmän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, joka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oordinoi ja kehittää sellaista yliopistossa, sen eri tiedekunnissa ja laitoksissa toteutuvaa tutkimus-, kokeilu- ja kehittämistyötä, jossa normaalikoulu voi olla mukan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Jokaisella harjoittelukoululla on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imus-, kokeilu ja kehittämistoiminnan strategi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urun normaalikoulun Tutkoke-strategia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3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CAA-3449-4119-8851-62054BC820C3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2:38Z</dcterms:created>
  <dc:creator>Tuomas Niinikoski</dc:creator>
  <dc:description/>
  <dc:language>en-US</dc:language>
  <cp:lastModifiedBy>Pirjo Mikkola</cp:lastModifiedBy>
  <dcterms:modified xsi:type="dcterms:W3CDTF">2011-02-08T10:05:26Z</dcterms:modified>
  <cp:revision>21</cp:revision>
  <dc:subject/>
  <dc:title>dwdwdwd</dc:title>
</cp:coreProperties>
</file>